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32BD-6130-4B1E-A2B8-9EB65DE568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275B-146F-4BCE-BCCB-C4D7E34A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A691-2928-4075-AFA3-C2A1FC3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EACA-F135-4783-80BA-D1E39AEA6B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F69D-41AD-403E-92E0-F1BFC85D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ED7E-AEE1-479C-B957-3E86BA06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F54A-02EA-472C-A216-E20472F9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7E5E-FA00-46CF-AC67-F6E41B90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1B60-112A-4DD8-B852-9CBF2AAA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EC72-BDC5-4835-A2A2-359492B9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D512-E98C-4BC0-8DF8-B31ED3C8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580A-BC30-48C1-8F4F-900C9C1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mbia Copper Investments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6B98721-A802-4734-AF50-DCFBFD35A3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85800" y="380880"/>
            <a:ext cx="7772400" cy="685800"/>
            <a:chOff x="685800" y="380880"/>
            <a:chExt cx="7772400" cy="685800"/>
          </a:xfrm>
        </p:grpSpPr>
        <p:sp>
          <p:nvSpPr>
            <p:cNvPr id="5" name=""/>
            <p:cNvSpPr/>
            <p:nvPr/>
          </p:nvSpPr>
          <p:spPr>
            <a:xfrm>
              <a:off x="685800" y="38088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85800" y="99036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ambia Copper Investments 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 August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505320"/>
            <a:ext cx="7925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0C0F-3906-4898-AB27-95DA5B6944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ancial Highl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09480" y="1523880"/>
          <a:ext cx="7848720" cy="40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848720" cy="40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62BC-8D61-4525-A49C-15711D8A9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urbishment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 term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ncial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D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74A8-ADD1-4B4A-96E1-0FEE6489CE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afety, Health &amp;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changa open pit slop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fety training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TIFR 0.83 (per 200,000 man-h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TISR 35 (per 200,000 man-h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V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laria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B3AF-C988-4A74-A10B-F5E8F091E5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3360" y="1600200"/>
          <a:ext cx="79372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600200"/>
                    <a:ext cx="7937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A552-8C9D-44A9-8602-25CD5808A8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furbishment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l with GRZ ($286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jor areas of sp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es: equipment, shafts, ventilation, development, support,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ing: concentrators, T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ments to date: $145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nd to date: $88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C ($286 mill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1395-28A0-4820-B4F6-44B0A23B0A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ar Term Pro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: continuing high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per price: continuing low for foreseeabl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&amp; cost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drive dow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-evaluation of viability of all operat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reductions in mine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urbishment: relook at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elter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hieve &gt; 300 tpd Cu on consistent basis (KCM propor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ive dow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rbis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16E8-E1AE-48B4-822E-87283F9DBA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ancial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8080" y="1066680"/>
          <a:ext cx="7239240" cy="520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23924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838080" y="1066680"/>
            <a:ext cx="746784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D794-54EB-4A27-8F46-B86452DEA6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DMP - Major Outstand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 of Feasibility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capex, opex &amp; economics (pr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elterco performance &amp;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ncing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reement with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159F-542D-4B92-8F33-B5E400F0C6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2:33:29Z</dcterms:created>
  <dc:creator>Greg Maud</dc:creator>
  <dc:description/>
  <dc:language>en-US</dc:language>
  <cp:lastModifiedBy>salesc</cp:lastModifiedBy>
  <cp:lastPrinted>2001-08-22T10:34:01Z</cp:lastPrinted>
  <dcterms:modified xsi:type="dcterms:W3CDTF">2001-08-24T08:39:50Z</dcterms:modified>
  <cp:revision>49</cp:revision>
  <dc:subject/>
  <dc:title>ZCI Presentation</dc:title>
</cp:coreProperties>
</file>