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51288-F027-4F1F-9B04-996B590DF4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DA8C-7C8F-4F21-98D2-168969C7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F0DF-D1E6-4BAC-97D3-1C626B3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006E-1C99-4769-B8C2-5B7B6C09D3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6727-FAE8-4438-B197-EF76E5E6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C5BB-F9F6-4E8D-9D1D-6E8BCC4B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24CD-8B03-4B4F-ABB4-669E1616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AC1E-6251-4D57-969C-7882C213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6315-C617-4EDA-B913-9B7C47EB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772B-C58B-4729-9399-2101356A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29C3-C039-4FF8-91B0-5BA12516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3B5E-D3B4-4E37-9EB3-083AE8AB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mbia Copper Investment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D7C5-AADA-464B-8539-3400E82A9A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85800" y="380880"/>
            <a:ext cx="7772400" cy="685800"/>
            <a:chOff x="685800" y="380880"/>
            <a:chExt cx="7772400" cy="685800"/>
          </a:xfrm>
        </p:grpSpPr>
        <p:sp>
          <p:nvSpPr>
            <p:cNvPr id="5" name=""/>
            <p:cNvSpPr/>
            <p:nvPr/>
          </p:nvSpPr>
          <p:spPr>
            <a:xfrm>
              <a:off x="685800" y="38088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85800" y="9903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ambia Copper Investments 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ésentation des 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 août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505320"/>
            <a:ext cx="7925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09D8-DFFC-40D1-8E6D-877915C87B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aux éléments financ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828800"/>
          <a:ext cx="789012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8901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C964-E66A-43DA-A201-B7ADACC47D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 à l'ordre du j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écurité, Hygiène, Environnement (S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érations cou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 de ré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pectives à court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tuation financ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D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64E8-29E3-433B-92F7-0F0240C1D9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écurité, Hygiène &amp; Environn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boulement à la mine à ciel ouvert de Ncha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ion et éducation en matière de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ux d'incidence des accidents du travail avec incapacité temporaire : 0,83 (par 200 000 heures-homme travaill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ux de gravité des accidents du travail avec incapacité temporaire : 35 (par 200 000 heures-homme travaill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ibilisation au 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ce de la 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37F3-F394-41CD-99B2-F79DAD41F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érations cou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3360" y="1600200"/>
          <a:ext cx="79372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600200"/>
                    <a:ext cx="7937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FBE3-7033-4C20-B146-E5D20B5D52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gramme de ré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ord avec GRZ ($ 286 mill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cipaux secteurs de dépen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es : équipements, puits, aérage, accès et traçage,  soutènement, pom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tement : concentrateurs, installation de lixiviation des  déch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s du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ments à ce jour : $ 145 mil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épenses à ce jour : $ 88 mil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ût final estimé ($ 286 million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B4FC-4C0A-4260-95B5-13B3F350C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pectives à court te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: ces secteurs restent priori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rs du cuivre : faiblesse persistante dans l'avenir pré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tion et maîtrise des coû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ératif de compression des coû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éévaluation de la viabilité de toutes les unités        opérationn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éductions possibles de la production min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de rénovation : réexamen du  calendrier des trav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elterco - Objectif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éaliser plus de 300 t de Cu par jour en régime constant (proportion K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éduire les coû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é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22A4-BD9E-4B4B-8F93-305418B07E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tuation financi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25560" y="1068480"/>
          <a:ext cx="7062840" cy="519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068480"/>
                    <a:ext cx="70628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838080" y="1066680"/>
            <a:ext cx="7467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4E45-5953-44CE-AE78-559600D53D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DMP - Eléments décis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at d'avancement de l'étude de faisabi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veau définitif des dépenses d'investissement, dépenses d'exploitation et paramètres économiques (c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ormance de Smelterco &amp;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rces de financement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ord avec les parte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773A-ADF1-4F66-879D-4CC697246A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2:33:29Z</dcterms:created>
  <dc:creator>Greg Maud</dc:creator>
  <dc:description/>
  <dc:language>en-US</dc:language>
  <cp:lastModifiedBy>salesc</cp:lastModifiedBy>
  <cp:lastPrinted>2001-08-24T13:52:15Z</cp:lastPrinted>
  <dcterms:modified xsi:type="dcterms:W3CDTF">2001-08-24T14:22:28Z</dcterms:modified>
  <cp:revision>53</cp:revision>
  <dc:subject/>
  <dc:title>ZCI Presentation</dc:title>
</cp:coreProperties>
</file>